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3.jpeg" ContentType="image/jpe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CDAF-0705-4CAA-BC40-C73F89285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927D-7685-4FE9-AA8C-E9BFD179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D38B2D-B8EF-4E3D-853A-31EE40597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FD570-1E48-452B-842F-C5995E41E5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E3222-C8C6-465B-8DBC-63FEA0CD3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07FE9-086B-41CB-9A4F-550DFF2E8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62680-FFE5-477B-8B0F-9AD8878751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A2CD0-63A7-47E2-A536-25DFD358E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5D495-5D85-496B-82BF-5F314828A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500D09-A7A2-4212-BE4B-0EB4039301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7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D9CFA4-E602-4670-930A-44762BA7A2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0FFCDE-5D5B-4E38-9CEE-29EE1539E6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CC6FF-C468-4CAE-985C-7A5752B54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8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74A4EF-AA14-40D4-9C64-1E17050291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C75412-AD9A-462F-8E20-9D3DFB57A0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BA5395-47BF-47A9-A2A9-4D6A2CDD8A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0C0E7C-31B4-4A63-9DAB-A548B03757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88FAC5-D4A6-4F5E-9F45-54856605B3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8F55B9-898C-4BA1-8564-A6AEA8661C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32543F-3BB3-4026-89CC-2A7FF666B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D234E4-50D1-45B9-BEF6-486CB129E8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0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A69F32-079E-4F7C-BE6F-8ED76C4D1D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71D2F2-FE98-4036-93A8-D6BC999E6A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5F1C9-62D7-484A-9570-E976BDEB2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1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5D9FBB-61C4-4855-B46D-687B495411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5F5359-62C6-4D13-AF3C-77945CD186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058EC5-9294-4260-8B9B-A263DB3EB2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E9401D-CB35-4E85-8014-23EC8B3885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E9F075-A69C-40E4-9CB7-1F56D33B64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DAE980-939B-489F-8FEF-66562DC34A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820E9C-A2D0-4BED-8380-CEB3E58362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D1D145-20FD-4FD1-B810-0452A82FB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76B3D6-80CB-4E70-87D5-705BF5FFD5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DC5BB3-98E6-46E8-8BE6-F1028FB10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DA573-7520-4974-A02E-7AA14D4B8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5BD825-B77A-4AEA-B7D3-165353CB3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146967-825C-4517-A66D-63193876FA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10BB93-7493-4BAE-86AA-3DA780C223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B7219B-5F1D-4E06-93E7-240AF0DE16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497BFF-98A8-43F9-8F3E-BCA8D787D6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CE8303-FCF3-43C2-850D-33386EEC59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873CEF-3FFD-408C-B3D1-9BCF31B1E6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453838-666F-4714-9488-284A1DD0C3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F340C6-608C-454C-9817-145AE85768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8F70FC-DE4A-41BD-AD0B-B8DA0A56B9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BF762-0EB4-4C9B-A9B0-AFC9A2739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A31906-48AF-4583-B7CD-17800DC17A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837514-701A-423F-B59E-1CF18636A8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972713-F662-4DA4-892D-E476C6DE1D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AB5C7EC-5FF3-4D7F-A094-C988CB4D77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23F0DA-3821-4879-80F0-FE2B518932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A176B-2ECD-4933-BD45-77122E962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835DA-5244-4AA3-AEE4-60A4C0673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A108D-A944-4041-9C73-F8941C2FA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8DD05-E013-412C-ABEF-85429BD88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A7F44-75EC-4871-92C4-0EA665AF3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9C65-DB1D-4BB2-8C07-1188340C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1C466-CEB2-4379-BE90-CEBD3C23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6E43E-A2AA-4604-9B1E-CDA28EF4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D0C3F-F003-4A55-82BC-029D35FC0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D457E-71E9-4D19-BBD0-F6E3CEB74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05694-0844-45DF-BDA1-767F1817C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37479-9A1B-4609-B997-F34F079EA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55C20-6AF1-4689-953A-7EA224DC4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D2DE6-0683-44FB-BAC1-8878A7AF5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208BB-D2B2-49C4-829C-B59FA4636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26F18-0209-4B03-9323-E567E8F2A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9B5D6-3117-46EC-9625-904B32EB3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1675D-CAC1-4009-8A79-683E71AA6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2E823-F674-4C7B-A4A4-24530E0D5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818E9-8623-4890-A7E5-6E6D56015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C7D31-701E-4416-ABE7-48CA5BA32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04063-0872-40C7-A539-AF64FD290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16F30-381A-40D7-A108-6500D523D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5C97D-DC3C-4BE6-8A8C-B706432173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F92171-3344-4334-A5C3-121B1D7F77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BE49C1-A0BB-470E-854A-1F182B2F6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E5371-AA98-4960-BA5D-2E5469333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0353-6484-403B-B8BB-DDD1F0429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E9EFC-1CAF-4E5C-8327-C6637219A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96C89-E23B-4E29-BB72-2B823EA5B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ED7DC-9321-4557-8B04-E102DAAC1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63AE5-7CFD-4CB9-AF8A-3636AB9FF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FD7B8-F24E-42F9-AB31-4DAF553B6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2A949-F05A-4C1B-B621-16803AF27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E3D02-A9E9-4C84-A45B-96A024620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511366-4AC8-4A88-99BD-D10CA447FE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CE07D-D518-465F-B922-B4B03099F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6CF8CF-B6CA-430A-86E2-6A109BBEA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073B-E3AF-4A26-89BB-9B92E869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E534F-3104-4A56-8A0B-B74F1D36B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F6DE6-40A6-4540-9EDD-3EEF07819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38C04-3123-4761-BFC4-6CE070F15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F3C0DD-66AA-4F49-9150-3D2B4CD2D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4B6A3-DD11-435D-8DA3-4DF42E1E9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53470-E4BD-448E-81FA-215AF1E84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C81CF-7E8F-4997-8E2F-A698FD586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B1F5E-DC05-47E1-AB6B-5497460A3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F5A514-D869-4246-86D9-B0A7452A3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CA557-D791-4F3C-8BA7-63DE194505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B400-4F67-49B2-8225-98894CE18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3DD91-2CFD-4465-BB5D-1811DD0CA3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1DE56C-7AF1-426B-B0E0-2D9E36DD53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0C354-5384-4A43-80B1-5B3ED32B1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74F42-335F-48DA-8101-E7C98E001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38849-099D-41A2-8D6B-433C7011B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431C6-9962-43A2-AD5C-4435B85D7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CF55F-0C88-4487-8B27-5171ACA51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3182C-CEC7-4B9B-AC2F-EA2744080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153AC-E622-4715-9A9B-EA6F61B3B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246CC-71E9-4323-84EF-6BA22BFD3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9F37-FDC1-4F23-91AA-53172D83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67B9C-6154-4F7B-AB7C-041BA5AB5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817AEE-16CD-459C-BBB8-01D79FDAA7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1A06D4-B5E4-43E1-B190-F8D29ABDB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F106AA-C11F-41F1-9AA1-B5B4465226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0185F-DE0F-45DB-9141-482B37EAA4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259E3-D034-4918-A1A1-5C5A24B6B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56950-178D-46BC-90CA-97C572ABBB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7B0B9-2522-4D83-ABE3-29B7432E7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26A0E-B51C-45F1-AEA3-973CF5D3A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8DDC08-794F-422A-BED8-A0AA23500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785E3-2324-4004-8754-C99A31AFB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34F10-B7BF-42A5-8FC5-59BF4D3FF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33B11-B763-4F3E-8797-BFD2DEAE3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5362E-0889-474D-B546-31E704030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B74C04-0260-4D3C-8CCA-C3F8F0E27D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F96EDE-FC83-42DB-83A7-8DE626AB1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4354F7-1D52-4D8D-BB9A-D85F82EFDB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0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35D6D-BBF8-4D4D-8D80-B77A2D7AA6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0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FFBD6B-F932-4304-A3E7-701356FE35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1CB37-5797-4661-8E37-7376A1CD2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9FA9A-8091-40BF-8ABC-7C9F413C6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77CC-2FB4-4B4B-AE0D-B3DDFF93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841D6C-F1DF-42AF-BA57-53EB33D74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B4946-67EB-4109-89C8-D084CC8D7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F4F2D-4527-4753-BCEF-1AC3DC7B6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AF025-11E6-4B20-8E08-001E7FB19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A18B1-5314-4C12-9C10-95A6CEEFE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33EE70-5B49-427C-9EA4-02F22172A3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3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D002A5-1D61-40A1-BE9E-DB01354E2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43FC6D-EB13-46A2-A7DC-2BFA95008F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4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79955-C08B-451E-A4DE-AA592CF5A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1E70C-D194-43AD-97F9-38A2D32770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2BBC-3AF4-41FA-8868-96CD121A5DF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Прямоугольник с одним вырезанным скругленным углом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9"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381"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8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6"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62EF-E0C1-4050-8E6B-DBBA869E639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4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25"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26"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F07F-ABD2-4A21-8314-1DA1BC0E26D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4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6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1A9B-2D58-4628-8BB9-4AB64710F0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50F1-4313-4B11-A305-7595F3713AD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8A5B-FCAE-4E8E-B265-BE6647DE379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89BC-F817-4BD0-BA2A-E852E4A5D0E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24A6-5C62-4232-818E-4521AC332D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2FF3-0C93-4E9D-839C-F8E0FE6DA0D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2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1805-7D8A-4D5B-8E98-BDC703B9F76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29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D3A5-D336-4F93-904D-4997A00290C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8D88-D359-4F9B-89A7-F242B81E9F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1979640" y="1341360"/>
            <a:ext cx="612144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a:solidFill>
                  <a:srgbClr val="ff0000"/>
                </a:solidFill>
                <a:latin typeface="Times New Roman"/>
              </a:rPr>
              <a:t>Тақырып №3 Ақша реформалары және валютаны тұрақтандыру әдістері</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Вертикальный свиток 3" descr=""/>
          <p:cNvPicPr/>
          <p:nvPr/>
        </p:nvPicPr>
        <p:blipFill>
          <a:blip r:embed="rId2"/>
          <a:stretch/>
        </p:blipFill>
        <p:spPr>
          <a:xfrm>
            <a:off x="2908440" y="195120"/>
            <a:ext cx="3681360" cy="3322800"/>
          </a:xfrm>
          <a:prstGeom prst="rect">
            <a:avLst/>
          </a:prstGeom>
          <a:ln w="0">
            <a:noFill/>
          </a:ln>
        </p:spPr>
      </p:pic>
      <p:sp>
        <p:nvSpPr>
          <p:cNvPr id="537" name="Выгнутая влево стрелка 4"/>
          <p:cNvSpPr/>
          <p:nvPr/>
        </p:nvSpPr>
        <p:spPr>
          <a:xfrm>
            <a:off x="357120" y="2500200"/>
            <a:ext cx="2500560" cy="2714760"/>
          </a:xfrm>
          <a:custGeom>
            <a:avLst/>
            <a:gdLst>
              <a:gd name="textAreaLeft" fmla="*/ 334800 w 2500560"/>
              <a:gd name="textAreaRight" fmla="*/ 2165760 w 2500560"/>
              <a:gd name="textAreaTop" fmla="*/ 444240 h 2714760"/>
              <a:gd name="textAreaBottom" fmla="*/ 1958040 h 2714760"/>
            </a:gdLst>
            <a:ahLst/>
            <a:rect l="textAreaLeft" t="textAreaTop" r="textAreaRight" b="textAreaBottom"/>
            <a:pathLst>
              <a:path w="21600" h="21600">
                <a:moveTo>
                  <a:pt x="21600" y="0"/>
                </a:moveTo>
                <a:arcTo wR="21600" hR="7070" stAng="-5400000" swAng="-5400000"/>
                <a:lnTo>
                  <a:pt x="0" y="12043"/>
                </a:lnTo>
                <a:arcTo wR="21600" hR="7070" stAng="10800000" swAng="-3103933"/>
                <a:lnTo>
                  <a:pt x="16200" y="21375"/>
                </a:lnTo>
                <a:lnTo>
                  <a:pt x="21600" y="16627"/>
                </a:lnTo>
                <a:lnTo>
                  <a:pt x="16200" y="11428"/>
                </a:lnTo>
                <a:lnTo>
                  <a:pt x="16200" y="13915"/>
                </a:lnTo>
                <a:arcTo wR="21600" hR="7070" stAng="7696067" swAng="2683299"/>
                <a:lnTo>
                  <a:pt x="1380" y="9557"/>
                </a:lnTo>
                <a:arcTo wR="21600" hR="7070" stAng="-10379365" swAng="4979365"/>
                <a:close/>
              </a:path>
              <a:path fill="darkenLess" w="21600" h="21600">
                <a:moveTo>
                  <a:pt x="21600" y="0"/>
                </a:moveTo>
                <a:arcTo wR="21600" hR="7070" stAng="-5400000" swAng="-5400000"/>
                <a:lnTo>
                  <a:pt x="0" y="7070"/>
                </a:lnTo>
                <a:arcTo wR="21600" hR="7070" stAng="10800000" swAng="-420635"/>
                <a:lnTo>
                  <a:pt x="1380" y="9557"/>
                </a:lnTo>
                <a:arcTo wR="21600" hR="7070" stAng="-10379365" swAng="4979365"/>
                <a:close/>
              </a:path>
            </a:pathLst>
          </a:custGeom>
          <a:solidFill>
            <a:srgbClr val="ffffff"/>
          </a:solidFill>
          <a:ln w="25560">
            <a:solidFill>
              <a:srgbClr val="a5c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8" name="Горизонтальный свиток 6"/>
          <p:cNvSpPr/>
          <p:nvPr/>
        </p:nvSpPr>
        <p:spPr>
          <a:xfrm>
            <a:off x="3286080" y="3786120"/>
            <a:ext cx="5572080" cy="2928960"/>
          </a:xfrm>
          <a:prstGeom prst="horizontalScroll">
            <a:avLst>
              <a:gd name="adj" fmla="val 12500"/>
            </a:avLst>
          </a:prstGeom>
          <a:solidFill>
            <a:srgbClr val="ffffff"/>
          </a:solidFill>
          <a:ln w="25560">
            <a:solidFill>
              <a:srgbClr val="a5c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Times New Roman"/>
              </a:rPr>
              <a:t>Шаруалар өнiм салықтарын мемлекетке тө</a:t>
            </a:r>
            <a:r>
              <a:rPr b="0" lang="kk-KZ" sz="1800" spc="-1" strike="noStrike">
                <a:solidFill>
                  <a:srgbClr val="0d0d0d"/>
                </a:solidFill>
                <a:latin typeface="Times New Roman"/>
              </a:rPr>
              <a:t>ле</a:t>
            </a:r>
            <a:r>
              <a:rPr b="0" lang="ru-RU" sz="1800" spc="-1" strike="noStrike">
                <a:solidFill>
                  <a:srgbClr val="0d0d0d"/>
                </a:solidFill>
                <a:latin typeface="Times New Roman"/>
              </a:rPr>
              <a:t>геннен кейiн, артық өнiмдерiн базарға сатуға мүмкiндiк туды. Қала мен ауыл арасында нарықтық қатынас дами бастады. Жеке меншiк капиталдық саудаға және ұсақ өнеркәсiпке араласуына жол берiлдi. Бiртiндеп еңбекақыны ақшамен төлеу қалпына келтiрiлд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Круглая лента лицом вверх 3"/>
          <p:cNvSpPr/>
          <p:nvPr/>
        </p:nvSpPr>
        <p:spPr>
          <a:xfrm>
            <a:off x="1928880" y="214200"/>
            <a:ext cx="5214960" cy="1928880"/>
          </a:xfrm>
          <a:custGeom>
            <a:avLst/>
            <a:gdLst>
              <a:gd name="textAreaLeft" fmla="*/ 1303560 w 5214960"/>
              <a:gd name="textAreaRight" fmla="*/ 3911400 w 5214960"/>
              <a:gd name="textAreaTop" fmla="*/ 56880 h 1928880"/>
              <a:gd name="textAreaBottom" fmla="*/ 1446840 h 19288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Г.Я.Сокольников алтын резервтерiн жинақтау қажет деп санады.</a:t>
            </a:r>
            <a:br>
              <a:rPr sz="1800"/>
            </a:br>
            <a:r>
              <a:rPr b="0" lang="ru-RU" sz="1800" spc="-1" strike="noStrike">
                <a:solidFill>
                  <a:srgbClr val="ff0000"/>
                </a:solidFill>
                <a:latin typeface="Times New Roman"/>
              </a:rPr>
              <a:t>Алтын қорының үш ролi болды:</a:t>
            </a:r>
            <a:endParaRPr b="0" lang="en-US" sz="1800" spc="-1" strike="noStrike">
              <a:solidFill>
                <a:srgbClr val="000000"/>
              </a:solidFill>
              <a:latin typeface="Times New Roman"/>
            </a:endParaRPr>
          </a:p>
        </p:txBody>
      </p:sp>
      <p:sp>
        <p:nvSpPr>
          <p:cNvPr id="540" name="Круглая лента лицом вниз 4"/>
          <p:cNvSpPr/>
          <p:nvPr/>
        </p:nvSpPr>
        <p:spPr>
          <a:xfrm>
            <a:off x="714240" y="2214720"/>
            <a:ext cx="8001000" cy="3357360"/>
          </a:xfrm>
          <a:custGeom>
            <a:avLst/>
            <a:gdLst>
              <a:gd name="textAreaLeft" fmla="*/ 2000160 w 8001000"/>
              <a:gd name="textAreaRight" fmla="*/ 6000840 w 8001000"/>
              <a:gd name="textAreaTop" fmla="*/ 839160 h 3357360"/>
              <a:gd name="textAreaBottom" fmla="*/ 3258000 h 3357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 </a:t>
            </a:r>
            <a:r>
              <a:rPr b="0" lang="ru-RU" sz="1800" spc="-1" strike="noStrike">
                <a:solidFill>
                  <a:srgbClr val="ff0000"/>
                </a:solidFill>
                <a:latin typeface="Times New Roman"/>
              </a:rPr>
              <a:t>халықаралық есеп айырысуларды резервтiк қор ретiнде;</a:t>
            </a:r>
            <a:br>
              <a:rPr sz="1800"/>
            </a:br>
            <a:r>
              <a:rPr b="0" lang="ru-RU" sz="1800" spc="-1" strike="noStrike">
                <a:solidFill>
                  <a:srgbClr val="ff0000"/>
                </a:solidFill>
                <a:latin typeface="Times New Roman"/>
              </a:rPr>
              <a:t>• iшкi нарықта червонец бағамын реттеушi (мембанк алтынды шетел валютасымен бiрге iшкi нарықтан сатып алып отырды);</a:t>
            </a:r>
            <a:br>
              <a:rPr sz="1800"/>
            </a:br>
            <a:r>
              <a:rPr b="0" lang="ru-RU" sz="1800" spc="-1" strike="noStrike">
                <a:solidFill>
                  <a:srgbClr val="ff0000"/>
                </a:solidFill>
                <a:latin typeface="Times New Roman"/>
              </a:rPr>
              <a:t>• көзге көрiнбейтiн жағдайларға арналған сақтандыру резервi.</a:t>
            </a:r>
            <a:br>
              <a:rPr sz="1800"/>
            </a:br>
            <a:endParaRPr b="0" lang="en-US" sz="1800" spc="-1" strike="noStrike">
              <a:solidFill>
                <a:srgbClr val="000000"/>
              </a:solidFill>
              <a:latin typeface="Times New Roman"/>
            </a:endParaRPr>
          </a:p>
        </p:txBody>
      </p:sp>
      <p:sp>
        <p:nvSpPr>
          <p:cNvPr id="541" name="Стрелка вниз 5"/>
          <p:cNvSpPr/>
          <p:nvPr/>
        </p:nvSpPr>
        <p:spPr>
          <a:xfrm>
            <a:off x="4071960" y="1785960"/>
            <a:ext cx="1071720" cy="1214280"/>
          </a:xfrm>
          <a:prstGeom prst="downArrow">
            <a:avLst>
              <a:gd name="adj1" fmla="val 50000"/>
              <a:gd name="adj2" fmla="val 4998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Rectangle 3"/>
          <p:cNvSpPr/>
          <p:nvPr/>
        </p:nvSpPr>
        <p:spPr>
          <a:xfrm>
            <a:off x="500040" y="1873800"/>
            <a:ext cx="835812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1922-1924 жж. Ақша реформасында көптеген адамдар құнсыз қағаз ақшалардың орнына мыс монеталардың келуi таңғажайып нәрсе баға бердi. Ақша айналысын реттеудi, ақша белгiлерiн эмиссиялауды қатаң орталықтандырып Ұлы Отан соғысына тұрақты ақша жүйесiмен қадам басуға мүмкiндiк жасад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3" name="Багетная рамка 3"/>
          <p:cNvGrpSpPr/>
          <p:nvPr/>
        </p:nvGrpSpPr>
        <p:grpSpPr>
          <a:xfrm>
            <a:off x="853920" y="603360"/>
            <a:ext cx="7077240" cy="3292200"/>
            <a:chOff x="853920" y="603360"/>
            <a:chExt cx="7077240" cy="3292200"/>
          </a:xfrm>
        </p:grpSpPr>
        <p:pic>
          <p:nvPicPr>
            <p:cNvPr id="544" name="Багетная рамка 3" descr=""/>
            <p:cNvPicPr/>
            <p:nvPr/>
          </p:nvPicPr>
          <p:blipFill>
            <a:blip r:embed="rId2"/>
            <a:stretch/>
          </p:blipFill>
          <p:spPr>
            <a:xfrm>
              <a:off x="853920" y="603360"/>
              <a:ext cx="7077240" cy="3292200"/>
            </a:xfrm>
            <a:prstGeom prst="rect">
              <a:avLst/>
            </a:prstGeom>
            <a:ln w="0">
              <a:noFill/>
            </a:ln>
          </p:spPr>
        </p:pic>
        <p:sp>
          <p:nvSpPr>
            <p:cNvPr id="545" name=""/>
            <p:cNvSpPr/>
            <p:nvPr/>
          </p:nvSpPr>
          <p:spPr>
            <a:xfrm>
              <a:off x="1320840" y="1035000"/>
              <a:ext cx="6145200" cy="235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947 жылғы ақша реформасы Ұлы Отан соғысы елге-679 млрд. рубльге шығын әкелдi, оның iшiнде әскери шығындар 551,1млрд.рубльдi құрады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Блок-схема: несколько документов 3" descr=""/>
          <p:cNvPicPr/>
          <p:nvPr/>
        </p:nvPicPr>
        <p:blipFill>
          <a:blip r:embed="rId2"/>
          <a:stretch/>
        </p:blipFill>
        <p:spPr>
          <a:xfrm>
            <a:off x="2498760" y="390600"/>
            <a:ext cx="4359240" cy="1719360"/>
          </a:xfrm>
          <a:prstGeom prst="rect">
            <a:avLst/>
          </a:prstGeom>
          <a:ln w="0">
            <a:noFill/>
          </a:ln>
        </p:spPr>
      </p:pic>
      <p:sp>
        <p:nvSpPr>
          <p:cNvPr id="547" name="Стрелка вниз 4"/>
          <p:cNvSpPr/>
          <p:nvPr/>
        </p:nvSpPr>
        <p:spPr>
          <a:xfrm>
            <a:off x="4143240" y="2143080"/>
            <a:ext cx="785880" cy="1143000"/>
          </a:xfrm>
          <a:prstGeom prst="downArrow">
            <a:avLst>
              <a:gd name="adj1" fmla="val 50000"/>
              <a:gd name="adj2" fmla="val 49996"/>
            </a:avLst>
          </a:prstGeom>
          <a:solidFill>
            <a:srgbClr val="9933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8" name="Двойная волна 5" descr=""/>
          <p:cNvPicPr/>
          <p:nvPr/>
        </p:nvPicPr>
        <p:blipFill>
          <a:blip r:embed="rId3"/>
          <a:stretch/>
        </p:blipFill>
        <p:spPr>
          <a:xfrm>
            <a:off x="2127240" y="3846600"/>
            <a:ext cx="5108760" cy="18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9" name="Picture 5" descr=""/>
          <p:cNvPicPr/>
          <p:nvPr/>
        </p:nvPicPr>
        <p:blipFill>
          <a:blip r:embed="rId2"/>
          <a:stretch/>
        </p:blipFill>
        <p:spPr>
          <a:xfrm>
            <a:off x="0" y="44280"/>
            <a:ext cx="9144000" cy="6858000"/>
          </a:xfrm>
          <a:prstGeom prst="rect">
            <a:avLst/>
          </a:prstGeom>
          <a:ln w="0">
            <a:noFill/>
          </a:ln>
        </p:spPr>
      </p:pic>
      <p:sp>
        <p:nvSpPr>
          <p:cNvPr id="550" name=""/>
          <p:cNvSpPr/>
          <p:nvPr/>
        </p:nvSpPr>
        <p:spPr>
          <a:xfrm>
            <a:off x="250920" y="404640"/>
            <a:ext cx="88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4617b"/>
                </a:solidFill>
                <a:latin typeface="Arial"/>
              </a:rPr>
              <a:t>Айнылысқа жаңа ақша бірліктері </a:t>
            </a:r>
            <a:r>
              <a:rPr b="0" lang="ru-RU" sz="3600" spc="-1" strike="noStrike">
                <a:solidFill>
                  <a:srgbClr val="04617b"/>
                </a:solidFill>
                <a:latin typeface="Arial"/>
              </a:rPr>
              <a:t>1,3,5,10,25,50,100 </a:t>
            </a:r>
            <a:r>
              <a:rPr b="0" lang="kk-KZ" sz="3600" spc="-1" strike="noStrike">
                <a:solidFill>
                  <a:srgbClr val="04617b"/>
                </a:solidFill>
                <a:latin typeface="Arial"/>
              </a:rPr>
              <a:t>номиналдық купюралар шықт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1" name="Picture 4" descr="F:\жанара\Безымянныйд.bmp"/>
          <p:cNvPicPr/>
          <p:nvPr/>
        </p:nvPicPr>
        <p:blipFill>
          <a:blip r:embed="rId2"/>
          <a:stretch/>
        </p:blipFill>
        <p:spPr>
          <a:xfrm>
            <a:off x="0" y="0"/>
            <a:ext cx="9144000" cy="6858000"/>
          </a:xfrm>
          <a:prstGeom prst="rect">
            <a:avLst/>
          </a:prstGeom>
          <a:ln w="0">
            <a:noFill/>
          </a:ln>
        </p:spPr>
      </p:pic>
      <p:sp>
        <p:nvSpPr>
          <p:cNvPr id="552" name=""/>
          <p:cNvSpPr/>
          <p:nvPr/>
        </p:nvSpPr>
        <p:spPr>
          <a:xfrm>
            <a:off x="468360" y="404640"/>
            <a:ext cx="8209080" cy="6677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20cd4"/>
                </a:solidFill>
                <a:latin typeface="Times New Roman"/>
              </a:rPr>
              <a:t>1948 ж. бiртұтас 2%-дық займға конверсиялануы болды. Барлық бұрынғы займдағы облигациялар 3:1 арақатынасымен айырбасталды. Ақша реформасын жүргiзуiмен қатар, барлық азық-түлiк және өнеркәсiп тауарларына деген карточкалық жүйе алынып тасталынды және карточкалық жүйемен салыстырғандағы нанның бағасы 10-12% төмендедi.</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3" name="Picture 2" descr="F:\жанара\ртпьт.bmp"/>
          <p:cNvPicPr/>
          <p:nvPr/>
        </p:nvPicPr>
        <p:blipFill>
          <a:blip r:embed="rId2"/>
          <a:stretch/>
        </p:blipFill>
        <p:spPr>
          <a:xfrm>
            <a:off x="0" y="0"/>
            <a:ext cx="9144000" cy="6858000"/>
          </a:xfrm>
          <a:prstGeom prst="rect">
            <a:avLst/>
          </a:prstGeom>
          <a:ln w="0">
            <a:noFill/>
          </a:ln>
        </p:spPr>
      </p:pic>
      <p:sp>
        <p:nvSpPr>
          <p:cNvPr id="554" name=""/>
          <p:cNvSpPr/>
          <p:nvPr/>
        </p:nvSpPr>
        <p:spPr>
          <a:xfrm>
            <a:off x="1332000" y="333360"/>
            <a:ext cx="66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imes New Roman"/>
              </a:rPr>
              <a:t>1947 ж. Ақша реформасын кейiн </a:t>
            </a:r>
            <a:endParaRPr b="0" lang="en-US" sz="3600" spc="-1" strike="noStrike">
              <a:solidFill>
                <a:srgbClr val="000000"/>
              </a:solidFill>
              <a:latin typeface="Times New Roman"/>
            </a:endParaRPr>
          </a:p>
        </p:txBody>
      </p:sp>
      <p:sp>
        <p:nvSpPr>
          <p:cNvPr id="555" name=""/>
          <p:cNvSpPr/>
          <p:nvPr/>
        </p:nvSpPr>
        <p:spPr>
          <a:xfrm>
            <a:off x="179280" y="981000"/>
            <a:ext cx="1728720" cy="2519280"/>
          </a:xfrm>
          <a:custGeom>
            <a:avLst/>
            <a:gdLst>
              <a:gd name="textAreaLeft" fmla="*/ 231480 w 1728720"/>
              <a:gd name="textAreaRight" fmla="*/ 1497240 w 1728720"/>
              <a:gd name="textAreaTop" fmla="*/ 440640 h 2519280"/>
              <a:gd name="textAreaBottom" fmla="*/ 1826640 h 2519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6" name=""/>
          <p:cNvSpPr/>
          <p:nvPr/>
        </p:nvSpPr>
        <p:spPr>
          <a:xfrm>
            <a:off x="2411280" y="2781360"/>
            <a:ext cx="61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Arial"/>
              </a:rPr>
              <a:t>алғашқы жылдары экономиканың дамуындағы қол жеткiзген жетiстiктер және карточка жүйесiнiң алынып тасталуы өнiмнiң өзiндiк құнының төмендеуiне, дүкендерде азық-түлiктердiң көбеюiне жол берд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7" name="" descr=""/>
          <p:cNvPicPr/>
          <p:nvPr/>
        </p:nvPicPr>
        <p:blipFill>
          <a:blip r:embed="rId2"/>
          <a:stretch/>
        </p:blipFill>
        <p:spPr>
          <a:xfrm>
            <a:off x="0" y="0"/>
            <a:ext cx="9144000" cy="6858000"/>
          </a:xfrm>
          <a:prstGeom prst="rect">
            <a:avLst/>
          </a:prstGeom>
          <a:ln w="0">
            <a:noFill/>
          </a:ln>
        </p:spPr>
      </p:pic>
      <p:sp>
        <p:nvSpPr>
          <p:cNvPr id="558" name=""/>
          <p:cNvSpPr/>
          <p:nvPr/>
        </p:nvSpPr>
        <p:spPr>
          <a:xfrm>
            <a:off x="1979640" y="260280"/>
            <a:ext cx="50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1961 ж. қаңтарынан бастап</a:t>
            </a:r>
            <a:r>
              <a:rPr b="0" lang="ru-RU" sz="1800" spc="-1" strike="noStrike">
                <a:solidFill>
                  <a:srgbClr val="000000"/>
                </a:solidFill>
                <a:latin typeface="Arial"/>
              </a:rPr>
              <a:t> </a:t>
            </a:r>
            <a:endParaRPr b="0" lang="en-US" sz="1800" spc="-1" strike="noStrike">
              <a:solidFill>
                <a:srgbClr val="000000"/>
              </a:solidFill>
              <a:latin typeface="Times New Roman"/>
            </a:endParaRPr>
          </a:p>
        </p:txBody>
      </p:sp>
      <p:sp>
        <p:nvSpPr>
          <p:cNvPr id="559" name=""/>
          <p:cNvSpPr/>
          <p:nvPr/>
        </p:nvSpPr>
        <p:spPr>
          <a:xfrm>
            <a:off x="1116000" y="1341360"/>
            <a:ext cx="6551640" cy="4824360"/>
          </a:xfrm>
          <a:prstGeom prst="upArrowCallout">
            <a:avLst>
              <a:gd name="adj1" fmla="val 33954"/>
              <a:gd name="adj2" fmla="val 33951"/>
              <a:gd name="adj3" fmla="val 16667"/>
              <a:gd name="adj4" fmla="val 6666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0" name=""/>
          <p:cNvSpPr/>
          <p:nvPr/>
        </p:nvSpPr>
        <p:spPr>
          <a:xfrm>
            <a:off x="1187280" y="3141720"/>
            <a:ext cx="633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йналысқа жаңа үлгiдегi мынадай ақша бiрлiктерi шығарылды: 1,3,5 қазыналық билеттер мен 10,25,50 және 100 рубльдегi мемлекеттiк банк (банкнот) билеттерi, сондай-ақ 1,2,3,5,10,15,20 және 50 тиындық монеталар. Ескi үлгiдегi ақша билеттерi және монеталар жаңа үлгiге 1:10 арақатынасымен ауыстырылды. 1,2,3,5 тиындық монеталар айырбастауға жатпағандықтан айналыста номинал бойынша қала берд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189000"/>
            <a:ext cx="8229600" cy="650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04617b"/>
                </a:solidFill>
                <a:latin typeface="Times New Roman"/>
              </a:rPr>
              <a:t> </a:t>
            </a:r>
            <a:r>
              <a:rPr b="0" lang="ru-RU" sz="4600" spc="-1" strike="noStrike">
                <a:solidFill>
                  <a:srgbClr val="04617b"/>
                </a:solidFill>
                <a:latin typeface="Times New Roman"/>
              </a:rPr>
              <a:t>1961 ж. 1 қаңтарынан бастап </a:t>
            </a:r>
            <a:endParaRPr b="0" lang="en-US" sz="4600" spc="-1" strike="noStrike">
              <a:solidFill>
                <a:srgbClr val="04617b"/>
              </a:solidFill>
              <a:latin typeface="Arial"/>
            </a:endParaRPr>
          </a:p>
        </p:txBody>
      </p:sp>
      <p:sp>
        <p:nvSpPr>
          <p:cNvPr id="562" name=""/>
          <p:cNvSpPr/>
          <p:nvPr/>
        </p:nvSpPr>
        <p:spPr>
          <a:xfrm>
            <a:off x="900000" y="1268280"/>
            <a:ext cx="6840720" cy="4824720"/>
          </a:xfrm>
          <a:custGeom>
            <a:avLst/>
            <a:gdLst>
              <a:gd name="textAreaLeft" fmla="*/ 1561680 w 6840720"/>
              <a:gd name="textAreaRight" fmla="*/ 5279040 w 6840720"/>
              <a:gd name="textAreaTop" fmla="*/ 1101240 h 4824720"/>
              <a:gd name="textAreaBottom" fmla="*/ 3723480 h 4824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3" name=""/>
          <p:cNvSpPr/>
          <p:nvPr/>
        </p:nvSpPr>
        <p:spPr>
          <a:xfrm>
            <a:off x="1979640" y="2205000"/>
            <a:ext cx="460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бльдiң алтындық құрамы 0,222168 г орнына 0,987412 өзгертiлiп, қайта белгiлендi. Рубльдiң жаңа алтын құрамы рубльде бейнеленген алтынның ресми дүниежүзiлiк бағасын тауарлар бағасымен теңестiрiп, мемлекеттiк бюджетпен сыртқы сауда арасындағы күрделi қайта есептеулердi қалыпқа келтiрдi. </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475920"/>
            <a:ext cx="8229600" cy="5848200"/>
          </a:xfrm>
          <a:prstGeom prst="rect">
            <a:avLst/>
          </a:prstGeom>
          <a:noFill/>
          <a:ln w="0">
            <a:noFill/>
          </a:ln>
        </p:spPr>
        <p:txBody>
          <a:bodyPr lIns="90000" rIns="90000" tIns="46800" bIns="46800"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Ма</a:t>
            </a:r>
            <a:r>
              <a:rPr b="0" lang="kk-KZ" sz="3200" spc="-1" strike="noStrike">
                <a:solidFill>
                  <a:srgbClr val="ff0000"/>
                </a:solidFill>
                <a:latin typeface="Times New Roman"/>
              </a:rPr>
              <a:t>қсаты: КСРО-дағы 1922-1993 жылғы ақша реформасы және оның кезеңдерін, ерекшкліктерін және оның қажеттіліктерін және масшатабының өзгеруін зерттеу.</a:t>
            </a:r>
            <a:endParaRPr b="0" lang="en-US" sz="3200" spc="-1" strike="noStrike">
              <a:solidFill>
                <a:srgbClr val="000000"/>
              </a:solidFill>
              <a:latin typeface="Times New Roman"/>
            </a:endParaRPr>
          </a:p>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Times New Roman"/>
              </a:rPr>
              <a:t> </a:t>
            </a:r>
            <a:r>
              <a:rPr b="0" lang="en-US" sz="3200" spc="-1" strike="noStrike">
                <a:solidFill>
                  <a:srgbClr val="ff0000"/>
                </a:solidFill>
                <a:latin typeface="Times New Roman"/>
              </a:rPr>
              <a:t>1993 </a:t>
            </a:r>
            <a:r>
              <a:rPr b="0" lang="ru-RU" sz="3200" spc="-1" strike="noStrike">
                <a:solidFill>
                  <a:srgbClr val="ff0000"/>
                </a:solidFill>
                <a:latin typeface="Times New Roman"/>
              </a:rPr>
              <a:t>ж. 12 қараша Қазақстан Республикасының Президентi Н.Ә.Назарбаев ”Қазақстан Республикасына ұлттық валютаны енгiзу туралы” Жарғыға қол қойды</a:t>
            </a:r>
            <a:endParaRPr b="0" lang="en-US" sz="3200" spc="-1" strike="noStrike">
              <a:solidFill>
                <a:srgbClr val="000000"/>
              </a:solidFill>
              <a:latin typeface="Times New Roman"/>
            </a:endParaRPr>
          </a:p>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4" name="Picture 5" descr="F:\жанара\.ддл.bmp"/>
          <p:cNvPicPr/>
          <p:nvPr/>
        </p:nvPicPr>
        <p:blipFill>
          <a:blip r:embed="rId2"/>
          <a:stretch/>
        </p:blipFill>
        <p:spPr>
          <a:xfrm>
            <a:off x="0" y="0"/>
            <a:ext cx="9144000" cy="6858000"/>
          </a:xfrm>
          <a:prstGeom prst="rect">
            <a:avLst/>
          </a:prstGeom>
          <a:ln w="0">
            <a:noFill/>
          </a:ln>
        </p:spPr>
      </p:pic>
      <p:sp>
        <p:nvSpPr>
          <p:cNvPr id="565" name=""/>
          <p:cNvSpPr/>
          <p:nvPr/>
        </p:nvSpPr>
        <p:spPr>
          <a:xfrm>
            <a:off x="3132000" y="189000"/>
            <a:ext cx="3097440" cy="1944720"/>
          </a:xfrm>
          <a:prstGeom prst="verticalScrol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6" name=""/>
          <p:cNvSpPr/>
          <p:nvPr/>
        </p:nvSpPr>
        <p:spPr>
          <a:xfrm>
            <a:off x="6732720" y="981000"/>
            <a:ext cx="2160360" cy="3960720"/>
          </a:xfrm>
          <a:custGeom>
            <a:avLst/>
            <a:gdLst>
              <a:gd name="textAreaLeft" fmla="*/ 289440 w 2160360"/>
              <a:gd name="textAreaRight" fmla="*/ 1870920 w 2160360"/>
              <a:gd name="textAreaTop" fmla="*/ 693000 h 3960720"/>
              <a:gd name="textAreaBottom" fmla="*/ 2871720 h 39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7" name=""/>
          <p:cNvSpPr/>
          <p:nvPr/>
        </p:nvSpPr>
        <p:spPr>
          <a:xfrm>
            <a:off x="900000" y="3284640"/>
            <a:ext cx="5400720" cy="280836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8" name=""/>
          <p:cNvSpPr/>
          <p:nvPr/>
        </p:nvSpPr>
        <p:spPr>
          <a:xfrm>
            <a:off x="1116000" y="3500280"/>
            <a:ext cx="5400720" cy="280836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9" name=""/>
          <p:cNvSpPr/>
          <p:nvPr/>
        </p:nvSpPr>
        <p:spPr>
          <a:xfrm>
            <a:off x="3348000" y="404640"/>
            <a:ext cx="3097080" cy="194472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3 </a:t>
            </a:r>
            <a:r>
              <a:rPr b="0" lang="ru-RU" sz="2400" spc="-1" strike="noStrike">
                <a:solidFill>
                  <a:srgbClr val="000000"/>
                </a:solidFill>
                <a:latin typeface="Times New Roman"/>
              </a:rPr>
              <a:t>ж. 12 қараша</a:t>
            </a:r>
            <a:r>
              <a:rPr b="0" lang="ru-RU" sz="1800" spc="-1" strike="noStrike">
                <a:solidFill>
                  <a:srgbClr val="000000"/>
                </a:solidFill>
                <a:latin typeface="Arial"/>
              </a:rPr>
              <a:t> </a:t>
            </a:r>
            <a:endParaRPr b="0" lang="en-US" sz="1800" spc="-1" strike="noStrike">
              <a:solidFill>
                <a:srgbClr val="000000"/>
              </a:solidFill>
              <a:latin typeface="Times New Roman"/>
            </a:endParaRPr>
          </a:p>
        </p:txBody>
      </p:sp>
      <p:sp>
        <p:nvSpPr>
          <p:cNvPr id="570" name=""/>
          <p:cNvSpPr/>
          <p:nvPr/>
        </p:nvSpPr>
        <p:spPr>
          <a:xfrm>
            <a:off x="6948360" y="1197000"/>
            <a:ext cx="2160720" cy="3960720"/>
          </a:xfrm>
          <a:custGeom>
            <a:avLst/>
            <a:gdLst>
              <a:gd name="textAreaLeft" fmla="*/ 289440 w 2160720"/>
              <a:gd name="textAreaRight" fmla="*/ 1871280 w 2160720"/>
              <a:gd name="textAreaTop" fmla="*/ 693000 h 3960720"/>
              <a:gd name="textAreaBottom" fmla="*/ 2871720 h 39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1" name=""/>
          <p:cNvSpPr/>
          <p:nvPr/>
        </p:nvSpPr>
        <p:spPr>
          <a:xfrm>
            <a:off x="1619280" y="4149720"/>
            <a:ext cx="4681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Қазақстан Республикасының Президентi Н.Ә.Назарбаев ”Қазақстан Республикасына ұлттық валютаны енгiзу туралы” Жарғыға қол қойды. Осы жарғымен 1993 жылы 15 қарашада сағат 8-ден бастап ұлттық валюта-теңге енгiзiлдi.</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2" name="Picture 4" descr="109367539864_image"/>
          <p:cNvPicPr/>
          <p:nvPr/>
        </p:nvPicPr>
        <p:blipFill>
          <a:blip r:embed="rId2"/>
          <a:stretch/>
        </p:blipFill>
        <p:spPr>
          <a:xfrm>
            <a:off x="0" y="0"/>
            <a:ext cx="9144000" cy="6858000"/>
          </a:xfrm>
          <a:prstGeom prst="rect">
            <a:avLst/>
          </a:prstGeom>
          <a:ln w="0">
            <a:noFill/>
          </a:ln>
        </p:spPr>
      </p:pic>
      <p:sp>
        <p:nvSpPr>
          <p:cNvPr id="573" name="chair1"/>
          <p:cNvSpPr/>
          <p:nvPr/>
        </p:nvSpPr>
        <p:spPr>
          <a:xfrm>
            <a:off x="2195640" y="333360"/>
            <a:ext cx="4895640" cy="6192720"/>
          </a:xfrm>
          <a:prstGeom prst="pie">
            <a:avLst/>
          </a:prstGeom>
          <a:solidFill>
            <a:srgbClr val="000000"/>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4" name=""/>
          <p:cNvSpPr/>
          <p:nvPr/>
        </p:nvSpPr>
        <p:spPr>
          <a:xfrm>
            <a:off x="3708360" y="620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992-1993 жж</a:t>
            </a:r>
            <a:endParaRPr b="0" lang="en-US" sz="2400" spc="-1" strike="noStrike">
              <a:solidFill>
                <a:srgbClr val="000000"/>
              </a:solidFill>
              <a:latin typeface="Times New Roman"/>
            </a:endParaRPr>
          </a:p>
        </p:txBody>
      </p:sp>
      <p:sp>
        <p:nvSpPr>
          <p:cNvPr id="575" name=""/>
          <p:cNvSpPr/>
          <p:nvPr/>
        </p:nvSpPr>
        <p:spPr>
          <a:xfrm>
            <a:off x="2627280" y="2349360"/>
            <a:ext cx="4032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Ресей үлгiсiндегi қазыналық және банктiк билеттердi айырбастау 20 қарашада сағат 18-де аяқталды. Қолма-қол ақшалардың, рубльдiк шоттардың, салымдар мен мiндеттемелердiң теңгеге айырбасы 1 теңге үшiн 500 рубль айырбас бағамы бойынша жүргiзiлдi. Қазақстан Республикасының 16 жастан асқан барлық азаматтары 100 мың рубль шегiнде ақша айырбастай алды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6" name="Picture 4" descr="money-bag"/>
          <p:cNvPicPr/>
          <p:nvPr/>
        </p:nvPicPr>
        <p:blipFill>
          <a:blip r:embed="rId2"/>
          <a:stretch/>
        </p:blipFill>
        <p:spPr>
          <a:xfrm>
            <a:off x="0" y="0"/>
            <a:ext cx="9144000" cy="6858000"/>
          </a:xfrm>
          <a:prstGeom prst="rect">
            <a:avLst/>
          </a:prstGeom>
          <a:ln w="0">
            <a:noFill/>
          </a:ln>
        </p:spPr>
      </p:pic>
      <p:sp>
        <p:nvSpPr>
          <p:cNvPr id="577" name=""/>
          <p:cNvSpPr txBox="1"/>
          <p:nvPr/>
        </p:nvSpPr>
        <p:spPr>
          <a:xfrm>
            <a:off x="2228760" y="1125360"/>
            <a:ext cx="4686480" cy="403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Назарларыңызға рахмет</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333360"/>
            <a:ext cx="8229600" cy="599112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cc"/>
                </a:solidFill>
                <a:latin typeface="Times New Roman"/>
              </a:rPr>
              <a:t>Жоспар</a:t>
            </a:r>
            <a:r>
              <a:rPr b="0" lang="kk-KZ" sz="2600" spc="-1" strike="noStrike">
                <a:solidFill>
                  <a:srgbClr val="0000cc"/>
                </a:solidFill>
                <a:latin typeface="Times New Roman"/>
              </a:rPr>
              <a:t>:</a:t>
            </a:r>
            <a:endParaRPr b="0" lang="en-US" sz="2600" spc="-1" strike="noStrike">
              <a:solidFill>
                <a:srgbClr val="000000"/>
              </a:solidFill>
              <a:latin typeface="Times New Roman"/>
            </a:endParaRPr>
          </a:p>
          <a:p>
            <a:pPr marL="495360" indent="-495360">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cc"/>
                </a:solidFill>
                <a:latin typeface="Times New Roman"/>
              </a:rPr>
              <a:t>КСРО-дағы 1922-24 жылдардағы ақша реформасы</a:t>
            </a:r>
            <a:endParaRPr b="0" lang="en-US" sz="2600" spc="-1" strike="noStrike">
              <a:solidFill>
                <a:srgbClr val="000000"/>
              </a:solidFill>
              <a:latin typeface="Times New Roman"/>
            </a:endParaRPr>
          </a:p>
          <a:p>
            <a:pPr marL="495360" indent="-495360">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cc"/>
                </a:solidFill>
                <a:latin typeface="Times New Roman"/>
              </a:rPr>
              <a:t>КСРО-дағы 1947 жылдардағы ақша реформасы және оның экономиканы дамытудағы маңызы</a:t>
            </a:r>
            <a:endParaRPr b="0" lang="en-US" sz="2600" spc="-1" strike="noStrike">
              <a:solidFill>
                <a:srgbClr val="000000"/>
              </a:solidFill>
              <a:latin typeface="Times New Roman"/>
            </a:endParaRPr>
          </a:p>
          <a:p>
            <a:pPr marL="495360" indent="-495360">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cc"/>
                </a:solidFill>
                <a:latin typeface="Times New Roman"/>
              </a:rPr>
              <a:t>1961 жылғы КСРО-да баға масштабының өзгеруі</a:t>
            </a:r>
            <a:endParaRPr b="0" lang="en-US" sz="2600" spc="-1" strike="noStrike">
              <a:solidFill>
                <a:srgbClr val="000000"/>
              </a:solidFill>
              <a:latin typeface="Times New Roman"/>
            </a:endParaRPr>
          </a:p>
          <a:p>
            <a:pPr marL="495360" indent="-495360">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cc"/>
                </a:solidFill>
                <a:latin typeface="Times New Roman"/>
              </a:rPr>
              <a:t>Қ.Р 1993 жылдардағы ақша реформасы, оның қажеттілігі мен жүргізілу ерекшеліктері</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28760" y="213840"/>
            <a:ext cx="8229600" cy="652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617b"/>
                </a:solidFill>
                <a:latin typeface="Arial"/>
              </a:rPr>
              <a:t>             </a:t>
            </a:r>
            <a:r>
              <a:rPr b="0" lang="ru-RU" sz="2800" spc="-1" strike="noStrike">
                <a:solidFill>
                  <a:srgbClr val="04617b"/>
                </a:solidFill>
                <a:latin typeface="Arial"/>
              </a:rPr>
              <a:t>1922-1924 жж. Ақша реформасы</a:t>
            </a:r>
            <a:endParaRPr b="0" lang="en-US" sz="2800" spc="-1" strike="noStrike">
              <a:solidFill>
                <a:srgbClr val="04617b"/>
              </a:solidFill>
              <a:latin typeface="Arial"/>
            </a:endParaRPr>
          </a:p>
        </p:txBody>
      </p:sp>
      <p:grpSp>
        <p:nvGrpSpPr>
          <p:cNvPr id="509" name="7-конечная звезда 5"/>
          <p:cNvGrpSpPr/>
          <p:nvPr/>
        </p:nvGrpSpPr>
        <p:grpSpPr>
          <a:xfrm>
            <a:off x="500040" y="1322280"/>
            <a:ext cx="7924680" cy="5286600"/>
            <a:chOff x="500040" y="1322280"/>
            <a:chExt cx="7924680" cy="5286600"/>
          </a:xfrm>
        </p:grpSpPr>
        <p:pic>
          <p:nvPicPr>
            <p:cNvPr id="510" name="7-конечная звезда 5" descr=""/>
            <p:cNvPicPr/>
            <p:nvPr/>
          </p:nvPicPr>
          <p:blipFill>
            <a:blip r:embed="rId2"/>
            <a:stretch/>
          </p:blipFill>
          <p:spPr>
            <a:xfrm>
              <a:off x="500040" y="1322280"/>
              <a:ext cx="7924680" cy="5286600"/>
            </a:xfrm>
            <a:prstGeom prst="rect">
              <a:avLst/>
            </a:prstGeom>
            <a:ln w="0">
              <a:noFill/>
            </a:ln>
          </p:spPr>
        </p:pic>
        <p:sp>
          <p:nvSpPr>
            <p:cNvPr id="511" name=""/>
            <p:cNvSpPr/>
            <p:nvPr/>
          </p:nvSpPr>
          <p:spPr>
            <a:xfrm>
              <a:off x="2303640" y="2376360"/>
              <a:ext cx="4322520" cy="285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Революцияға дейiнгi Қазақстанда жүргiзiлген 1895-1897 жж. Ақша реформалары нәтижесiнде алтын монета айналысы бар алтын монометализм жүйесi енгiзiлдi.</a:t>
              </a:r>
              <a:br>
                <a:rPr sz="2400"/>
              </a:b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Блок-схема: знак завершения 3"/>
          <p:cNvSpPr/>
          <p:nvPr/>
        </p:nvSpPr>
        <p:spPr>
          <a:xfrm>
            <a:off x="857160" y="500040"/>
            <a:ext cx="7143840" cy="857160"/>
          </a:xfrm>
          <a:prstGeom prst="flowChartTermina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Айналыста жүргізілді</a:t>
            </a:r>
            <a:endParaRPr b="0" lang="en-US" sz="2800" spc="-1" strike="noStrike">
              <a:solidFill>
                <a:srgbClr val="000000"/>
              </a:solidFill>
              <a:latin typeface="Times New Roman"/>
            </a:endParaRPr>
          </a:p>
        </p:txBody>
      </p:sp>
      <p:grpSp>
        <p:nvGrpSpPr>
          <p:cNvPr id="513" name="Скругленный прямоугольник 9"/>
          <p:cNvGrpSpPr/>
          <p:nvPr/>
        </p:nvGrpSpPr>
        <p:grpSpPr>
          <a:xfrm>
            <a:off x="785880" y="2610000"/>
            <a:ext cx="2639880" cy="1571400"/>
            <a:chOff x="785880" y="2610000"/>
            <a:chExt cx="2639880" cy="1571400"/>
          </a:xfrm>
        </p:grpSpPr>
        <p:pic>
          <p:nvPicPr>
            <p:cNvPr id="514" name="Скругленный прямоугольник 9" descr=""/>
            <p:cNvPicPr/>
            <p:nvPr/>
          </p:nvPicPr>
          <p:blipFill>
            <a:blip r:embed="rId2"/>
            <a:stretch/>
          </p:blipFill>
          <p:spPr>
            <a:xfrm>
              <a:off x="785880" y="2610000"/>
              <a:ext cx="2639880" cy="1571400"/>
            </a:xfrm>
            <a:prstGeom prst="rect">
              <a:avLst/>
            </a:prstGeom>
            <a:ln w="0">
              <a:noFill/>
            </a:ln>
          </p:spPr>
        </p:pic>
        <p:sp>
          <p:nvSpPr>
            <p:cNvPr id="515" name=""/>
            <p:cNvSpPr/>
            <p:nvPr/>
          </p:nvSpPr>
          <p:spPr>
            <a:xfrm>
              <a:off x="927000" y="2712960"/>
              <a:ext cx="2360880" cy="128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алтын</a:t>
              </a:r>
              <a:endParaRPr b="0" lang="en-US" sz="1800" spc="-1" strike="noStrike">
                <a:solidFill>
                  <a:srgbClr val="000000"/>
                </a:solidFill>
                <a:latin typeface="Times New Roman"/>
              </a:endParaRPr>
            </a:p>
          </p:txBody>
        </p:sp>
      </p:grpSp>
      <p:grpSp>
        <p:nvGrpSpPr>
          <p:cNvPr id="516" name="Скругленный прямоугольник 10"/>
          <p:cNvGrpSpPr/>
          <p:nvPr/>
        </p:nvGrpSpPr>
        <p:grpSpPr>
          <a:xfrm>
            <a:off x="5425920" y="2389320"/>
            <a:ext cx="2359080" cy="1652400"/>
            <a:chOff x="5425920" y="2389320"/>
            <a:chExt cx="2359080" cy="1652400"/>
          </a:xfrm>
        </p:grpSpPr>
        <p:pic>
          <p:nvPicPr>
            <p:cNvPr id="517" name="Скругленный прямоугольник 10" descr=""/>
            <p:cNvPicPr/>
            <p:nvPr/>
          </p:nvPicPr>
          <p:blipFill>
            <a:blip r:embed="rId3"/>
            <a:stretch/>
          </p:blipFill>
          <p:spPr>
            <a:xfrm>
              <a:off x="5425920" y="2389320"/>
              <a:ext cx="2359080" cy="1652400"/>
            </a:xfrm>
            <a:prstGeom prst="rect">
              <a:avLst/>
            </a:prstGeom>
            <a:ln w="0">
              <a:noFill/>
            </a:ln>
          </p:spPr>
        </p:pic>
        <p:sp>
          <p:nvSpPr>
            <p:cNvPr id="518" name=""/>
            <p:cNvSpPr/>
            <p:nvPr/>
          </p:nvSpPr>
          <p:spPr>
            <a:xfrm>
              <a:off x="5573880" y="2502000"/>
              <a:ext cx="2068200" cy="13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күмiс</a:t>
              </a:r>
              <a:endParaRPr b="0" lang="en-US" sz="1800" spc="-1" strike="noStrike">
                <a:solidFill>
                  <a:srgbClr val="000000"/>
                </a:solidFill>
                <a:latin typeface="Times New Roman"/>
              </a:endParaRPr>
            </a:p>
          </p:txBody>
        </p:sp>
      </p:grpSp>
      <p:sp>
        <p:nvSpPr>
          <p:cNvPr id="519" name="Стрелка вниз 13"/>
          <p:cNvSpPr/>
          <p:nvPr/>
        </p:nvSpPr>
        <p:spPr>
          <a:xfrm>
            <a:off x="1857240" y="1428840"/>
            <a:ext cx="642960" cy="1000080"/>
          </a:xfrm>
          <a:prstGeom prst="downArrow">
            <a:avLst>
              <a:gd name="adj1" fmla="val 50000"/>
              <a:gd name="adj2" fmla="val 49997"/>
            </a:avLst>
          </a:prstGeom>
          <a:solidFill>
            <a:srgbClr val="ffffff"/>
          </a:solidFill>
          <a:ln w="25560">
            <a:solidFill>
              <a:srgbClr val="a5c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Стрелка вниз 14"/>
          <p:cNvSpPr/>
          <p:nvPr/>
        </p:nvSpPr>
        <p:spPr>
          <a:xfrm>
            <a:off x="6429240" y="1428840"/>
            <a:ext cx="500040" cy="857160"/>
          </a:xfrm>
          <a:prstGeom prst="downArrow">
            <a:avLst>
              <a:gd name="adj1" fmla="val 50000"/>
              <a:gd name="adj2" fmla="val 49997"/>
            </a:avLst>
          </a:prstGeom>
          <a:solidFill>
            <a:srgbClr val="ffffff"/>
          </a:solidFill>
          <a:ln w="25560">
            <a:solidFill>
              <a:srgbClr val="a5c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Стрелка вниз 15"/>
          <p:cNvSpPr/>
          <p:nvPr/>
        </p:nvSpPr>
        <p:spPr>
          <a:xfrm>
            <a:off x="4143240" y="1428840"/>
            <a:ext cx="642960" cy="3214440"/>
          </a:xfrm>
          <a:prstGeom prst="downArrow">
            <a:avLst>
              <a:gd name="adj1" fmla="val 50000"/>
              <a:gd name="adj2" fmla="val 49994"/>
            </a:avLst>
          </a:prstGeom>
          <a:solidFill>
            <a:srgbClr val="ffffff"/>
          </a:solidFill>
          <a:ln w="25560">
            <a:solidFill>
              <a:srgbClr val="a5c2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2" name="Скругленный прямоугольник 11"/>
          <p:cNvGrpSpPr/>
          <p:nvPr/>
        </p:nvGrpSpPr>
        <p:grpSpPr>
          <a:xfrm>
            <a:off x="2925720" y="4962600"/>
            <a:ext cx="2859120" cy="1431720"/>
            <a:chOff x="2925720" y="4962600"/>
            <a:chExt cx="2859120" cy="1431720"/>
          </a:xfrm>
        </p:grpSpPr>
        <p:pic>
          <p:nvPicPr>
            <p:cNvPr id="523" name="Скругленный прямоугольник 11" descr=""/>
            <p:cNvPicPr/>
            <p:nvPr/>
          </p:nvPicPr>
          <p:blipFill>
            <a:blip r:embed="rId4"/>
            <a:stretch/>
          </p:blipFill>
          <p:spPr>
            <a:xfrm>
              <a:off x="2925720" y="4962600"/>
              <a:ext cx="2859120" cy="1431720"/>
            </a:xfrm>
            <a:prstGeom prst="rect">
              <a:avLst/>
            </a:prstGeom>
            <a:ln w="0">
              <a:noFill/>
            </a:ln>
          </p:spPr>
        </p:pic>
        <p:sp>
          <p:nvSpPr>
            <p:cNvPr id="524" name=""/>
            <p:cNvSpPr/>
            <p:nvPr/>
          </p:nvSpPr>
          <p:spPr>
            <a:xfrm>
              <a:off x="3063960" y="5064120"/>
              <a:ext cx="2587680" cy="11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мыс</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5" name="Пятно 2 3"/>
          <p:cNvGrpSpPr/>
          <p:nvPr/>
        </p:nvGrpSpPr>
        <p:grpSpPr>
          <a:xfrm>
            <a:off x="2498760" y="324000"/>
            <a:ext cx="3359160" cy="1785960"/>
            <a:chOff x="2498760" y="324000"/>
            <a:chExt cx="3359160" cy="1785960"/>
          </a:xfrm>
        </p:grpSpPr>
        <p:pic>
          <p:nvPicPr>
            <p:cNvPr id="526" name="Пятно 2 3" descr=""/>
            <p:cNvPicPr/>
            <p:nvPr/>
          </p:nvPicPr>
          <p:blipFill>
            <a:blip r:embed="rId2"/>
            <a:stretch/>
          </p:blipFill>
          <p:spPr>
            <a:xfrm>
              <a:off x="2498760" y="324000"/>
              <a:ext cx="3359160" cy="1785960"/>
            </a:xfrm>
            <a:prstGeom prst="rect">
              <a:avLst/>
            </a:prstGeom>
            <a:ln w="0">
              <a:noFill/>
            </a:ln>
          </p:spPr>
        </p:pic>
        <p:sp>
          <p:nvSpPr>
            <p:cNvPr id="527" name=""/>
            <p:cNvSpPr/>
            <p:nvPr/>
          </p:nvSpPr>
          <p:spPr>
            <a:xfrm>
              <a:off x="3371760" y="843120"/>
              <a:ext cx="1379520" cy="72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1917-1920 жылдары</a:t>
              </a:r>
              <a:endParaRPr b="0" lang="en-US" sz="1800" spc="-1" strike="noStrike">
                <a:solidFill>
                  <a:srgbClr val="000000"/>
                </a:solidFill>
                <a:latin typeface="Times New Roman"/>
              </a:endParaRPr>
            </a:p>
          </p:txBody>
        </p:sp>
      </p:grpSp>
      <p:sp>
        <p:nvSpPr>
          <p:cNvPr id="528" name="Выгнутая влево стрелка 5"/>
          <p:cNvSpPr/>
          <p:nvPr/>
        </p:nvSpPr>
        <p:spPr>
          <a:xfrm>
            <a:off x="285840" y="1643040"/>
            <a:ext cx="2286000" cy="1571760"/>
          </a:xfrm>
          <a:custGeom>
            <a:avLst/>
            <a:gdLst>
              <a:gd name="textAreaLeft" fmla="*/ 306000 w 2286000"/>
              <a:gd name="textAreaRight" fmla="*/ 1980000 w 2286000"/>
              <a:gd name="textAreaTop" fmla="*/ 245520 h 1571760"/>
              <a:gd name="textAreaBottom" fmla="*/ 1129680 h 1571760"/>
            </a:gdLst>
            <a:ahLst/>
            <a:rect l="textAreaLeft" t="textAreaTop" r="textAreaRight" b="textAreaBottom"/>
            <a:pathLst>
              <a:path w="21600" h="21600">
                <a:moveTo>
                  <a:pt x="21600" y="0"/>
                </a:moveTo>
                <a:arcTo wR="21600" hR="6750" stAng="-5400000" swAng="-5400000"/>
                <a:lnTo>
                  <a:pt x="0" y="12150"/>
                </a:lnTo>
                <a:arcTo wR="21600" hR="6750" stAng="10800000" swAng="-3649298"/>
                <a:lnTo>
                  <a:pt x="17887" y="21500"/>
                </a:lnTo>
                <a:lnTo>
                  <a:pt x="21600" y="16200"/>
                </a:lnTo>
                <a:lnTo>
                  <a:pt x="17887" y="10700"/>
                </a:lnTo>
                <a:lnTo>
                  <a:pt x="17887" y="13400"/>
                </a:lnTo>
                <a:arcTo wR="21600" hR="6750" stAng="7150702" swAng="3183312"/>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9" name="TextBox 6" descr=""/>
          <p:cNvPicPr/>
          <p:nvPr/>
        </p:nvPicPr>
        <p:blipFill>
          <a:blip r:embed="rId3"/>
          <a:stretch/>
        </p:blipFill>
        <p:spPr>
          <a:xfrm>
            <a:off x="2462040" y="2548080"/>
            <a:ext cx="6340680" cy="1073160"/>
          </a:xfrm>
          <a:prstGeom prst="rect">
            <a:avLst/>
          </a:prstGeom>
          <a:ln w="0">
            <a:noFill/>
          </a:ln>
        </p:spPr>
      </p:pic>
      <p:pic>
        <p:nvPicPr>
          <p:cNvPr id="530" name="TextBox 7" descr=""/>
          <p:cNvPicPr/>
          <p:nvPr/>
        </p:nvPicPr>
        <p:blipFill>
          <a:blip r:embed="rId4"/>
          <a:stretch/>
        </p:blipFill>
        <p:spPr>
          <a:xfrm>
            <a:off x="2548080" y="3797280"/>
            <a:ext cx="6327720" cy="44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214200"/>
            <a:ext cx="8229600" cy="1347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cc"/>
                </a:solidFill>
                <a:latin typeface="Arial"/>
              </a:rPr>
              <a:t>1919 ж. алғаш рет кеңестiк мемлекеттiк билеттер, кейiннен РСФСР-дiң есеп айырысу белгiлерi айналысқа шығарылды:</a:t>
            </a:r>
            <a:endParaRPr b="0" lang="en-US" sz="2800" spc="-1" strike="noStrike">
              <a:solidFill>
                <a:srgbClr val="04617b"/>
              </a:solidFill>
              <a:latin typeface="Arial"/>
            </a:endParaRPr>
          </a:p>
        </p:txBody>
      </p:sp>
      <p:pic>
        <p:nvPicPr>
          <p:cNvPr id="532" name="Схема 3" descr=""/>
          <p:cNvPicPr/>
          <p:nvPr/>
        </p:nvPicPr>
        <p:blipFill>
          <a:blip r:embed="rId2"/>
          <a:stretch/>
        </p:blipFill>
        <p:spPr>
          <a:xfrm>
            <a:off x="927000" y="1706400"/>
            <a:ext cx="6235920" cy="40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Схема 3" descr=""/>
          <p:cNvPicPr/>
          <p:nvPr/>
        </p:nvPicPr>
        <p:blipFill>
          <a:blip r:embed="rId2"/>
          <a:stretch/>
        </p:blipFill>
        <p:spPr>
          <a:xfrm>
            <a:off x="341280" y="208080"/>
            <a:ext cx="8534520" cy="629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Выноска со стрелкой вниз 3"/>
          <p:cNvSpPr/>
          <p:nvPr/>
        </p:nvSpPr>
        <p:spPr>
          <a:xfrm>
            <a:off x="3143160" y="357120"/>
            <a:ext cx="2714760" cy="2143080"/>
          </a:xfrm>
          <a:prstGeom prst="downArrowCallout">
            <a:avLst>
              <a:gd name="adj1" fmla="val 25009"/>
              <a:gd name="adj2" fmla="val 25001"/>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rPr>
              <a:t>1920 ж. соңынан бастап “еңбек поягын” ақысыз беру басталды</a:t>
            </a:r>
            <a:endParaRPr b="0" lang="en-US" sz="1800" spc="-1" strike="noStrike">
              <a:solidFill>
                <a:srgbClr val="000000"/>
              </a:solidFill>
              <a:latin typeface="Times New Roman"/>
            </a:endParaRPr>
          </a:p>
        </p:txBody>
      </p:sp>
      <p:sp>
        <p:nvSpPr>
          <p:cNvPr id="535" name="TextBox 6"/>
          <p:cNvSpPr/>
          <p:nvPr/>
        </p:nvSpPr>
        <p:spPr>
          <a:xfrm>
            <a:off x="214200" y="2786040"/>
            <a:ext cx="871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Times New Roman"/>
              </a:rPr>
              <a:t>Пәтер ақы мен коммуналдық қызметер үшiн төлем алынып тасталды. Оқушыларға тегiн киiм берiлдi. Базалардың өзiнде, азық-түлiктермен алмасу ақшасыз, яғни кездейсоқ айырбас эквивалент (мысалы етiк жұбы 30 фунт крупаға, немесе 1 пуд қара ұнға, немесе 3 фунт махоркаға және т.б.) түрiнде жүзеге асырылд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1-13T05:33:24Z</dcterms:modified>
  <cp:revision>21</cp:revision>
  <dc:subject/>
  <dc:title>Таќырыбы:Аќша реформалары жјне валютаны тўраќтандыру јдістері </dc:title>
</cp:coreProperties>
</file>